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E5FD-4538-40AA-A824-7FF2459A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974-53FE-4949-8478-9A1E26B1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934-5BEC-4CD9-A39B-DD8A8FBC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8DE-E7E7-4FD7-8168-E53CD54D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35F-9BD4-4709-ADE4-6F44FCD5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3D6-246A-4F9A-9608-E0B26F18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941-3B26-4B83-883D-C39E9FAC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422-525D-4AB9-9959-C8863023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7E6-0E94-41FC-9D0A-B9A822F7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7B3-220A-4AFE-8462-E513AA80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065-D6D6-4C8C-99E3-1D2C23C3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026-31E5-4BC9-87C4-4E9F5FA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94D-BCD1-4D66-846B-E45E9B56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035E-91DD-4906-A2BD-8D52C6074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1006/orangesun_friedman_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560 billion kg of H to He (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)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of Sun: 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 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sec = 3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 = 114 billion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D:\working copy\GRAPHIC0\Astronomy\Solar0.gif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uwgb.edu/dutchs/GRAPHIC0/Astronomy/Solar1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3122" r="0" b="4810"/>
          <a:stretch/>
        </p:blipFill>
        <p:spPr>
          <a:xfrm>
            <a:off x="457200" y="18288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c.cornell.edu/~slantz/Students/Clark/sun.gif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0497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thaispaceweather.com/IHY/Sun/images/pho06.jpg"/>
          <p:cNvPicPr/>
          <p:nvPr/>
        </p:nvPicPr>
        <p:blipFill>
          <a:blip r:embed="rId1"/>
          <a:stretch/>
        </p:blipFill>
        <p:spPr>
          <a:xfrm>
            <a:off x="2209680" y="144792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solarphysics.kva.se/gallery/images/2003/29Jun2003_4305.1886-1888_color.jpg"/>
          <p:cNvPicPr/>
          <p:nvPr/>
        </p:nvPicPr>
        <p:blipFill>
          <a:blip r:embed="rId1"/>
          <a:stretch/>
        </p:blipFill>
        <p:spPr>
          <a:xfrm>
            <a:off x="2514600" y="228600"/>
            <a:ext cx="6400800" cy="64612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damianpeach.com/images/solar/2004_05_31_1111vis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094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stereo.gsfc.nasa.gov/img/stereoimages/preview/Spicules080307.jpg"/>
          <p:cNvPicPr/>
          <p:nvPr/>
        </p:nvPicPr>
        <p:blipFill>
          <a:blip r:embed="rId1"/>
          <a:stretch/>
        </p:blipFill>
        <p:spPr>
          <a:xfrm>
            <a:off x="533520" y="1447920"/>
            <a:ext cx="806904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4880" y="1295280"/>
            <a:ext cx="7734240" cy="5220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8960" y="1447920"/>
            <a:ext cx="8506080" cy="487368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5228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360360" y="0"/>
            <a:ext cx="83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5181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 (A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sity (gm/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volume: Core of Sun =  0.9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Human body = 12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energy via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’s energy output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E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(300,000,00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billion kg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8:38:07Z</dcterms:created>
  <dc:creator>default prof</dc:creator>
  <dc:description/>
  <dc:language>en-US</dc:language>
  <cp:lastModifiedBy>Legion</cp:lastModifiedBy>
  <dcterms:modified xsi:type="dcterms:W3CDTF">2017-01-26T10:28:27Z</dcterms:modified>
  <cp:revision>36</cp:revision>
  <dc:subject/>
  <dc:title>Life Cycles of Stars</dc:title>
</cp:coreProperties>
</file>